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048-521D-4520-A672-505545DA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12C-ED0E-4431-B9C2-0090B6B8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BFC-92FC-4C84-B031-67BE5DA0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0DA-5AD0-41C5-9832-873A5602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E9A3-F07D-49F7-9864-904D971B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8D53-017F-49B6-AF46-D5DEA125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633B-2222-401A-974B-64CD31C4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A703-4C5A-4374-B86F-C4EAB191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F23C-FB0F-44EC-8DBE-9CBF57EC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600B-FF95-474F-8643-C9A1D96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32FA-D6C1-4982-8501-D0C4C3A0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DA8-9A9B-4D67-9B9D-94071D2F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18A7-1A29-4C36-9BD1-3212D69C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2E9B-40A0-4E04-BC05-70842E71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7CA8-8E4A-490A-99B6-97638FD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F398-0868-48FF-9021-07523767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B30D-AC4B-44EA-9974-81771257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503-4BEB-4B03-BC1F-9584F01E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961-EF66-4F71-9ABE-4B1CBC8C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66B-0A44-4031-9CE7-95C62797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93C-6071-45EA-BF3D-7C3ECE08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211-D4B6-4F00-B95E-FC6B370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57D-F6F1-480B-91EE-B574B5F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B2F-18D2-4058-8158-EA1DDC7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BB57-1704-412D-BCFD-44C1A595803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9FD2-12F3-4011-99F9-26E06586532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CUENTO DE LA LECH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EDADES TEXTU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ARTA COMERC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tas entre las empresas, empresas y particulares o viceve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IRC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do escrito del que se hacen tantas copias como enví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ACTERÍSTICA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 LAS CARTAS COMERCIALES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 de s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males: ni cultas ni coloqu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rrectas: respetan la gramática y ortografí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as: sintaxis sencil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uales: sin arcaísm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cráticas: sin discrimina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conómicas: no larg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TIPOS </a:t>
            </a:r>
            <a:br>
              <a:rPr sz="5100"/>
            </a:b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DE CARTAS COMERCIALES 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ertas y publicidad de produc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lamaciones a empresas o particula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ed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UCTURA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 UNA CARTA COMER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Present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atos de la persona o empresa que emite la ca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ugar y fe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destina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uerp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sunto a trat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ped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ier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remit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Notas, anexos, catálogos adju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0:08:27Z</dcterms:modified>
  <cp:revision>6</cp:revision>
  <dc:subject/>
  <dc:title>TEMA 7</dc:title>
</cp:coreProperties>
</file>